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EDE8-D15E-48AD-83E4-15A8A4C21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A1B1-2460-45A6-B85A-520A05FD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6853-B876-40F1-8179-740BA7FD2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91AE-D0D9-4CA6-A987-B0FE97A77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99D7-CC4D-4D56-90EC-1FF2F02C7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EDFE-E9F0-448B-A73B-C500B393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C1DA-0696-4888-9459-29A80D9E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5A95-2A92-4A9A-99C7-B8DDE417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5E31-CEB1-4AF3-A93D-D70D0F20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9B22-B9E6-484B-A676-D0D36186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581B-026E-462E-8E72-02A10956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0E8B-F1BB-4A46-A1A0-4397E8D8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11CE-FA76-4121-B45D-01E4F8E8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3AB2-69BE-4B5C-8EB8-0BF3F7C0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8A34-8898-48E4-96AC-354E3C31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B991-321C-44DC-9B4A-8F53CBC27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D562-0B9A-42C6-8765-7A1FB7BC3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E18B2-2A5F-4B27-A0B7-B176403F2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E2458-7323-4792-B114-172ED1DD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DBE96-754D-45B0-86CE-606DF678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A58F3-5402-4C0D-B880-8B4F433E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6F5D3-BB76-4884-9A54-55E4030F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E6D3-4805-419D-924D-79B6C51C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543F0-0FCF-4BA7-8394-960790D7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3E6DA-5A8F-4A22-92D2-E20669E9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C76C9-11E2-44A9-98D6-226B7543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5DE3C-F565-44A6-85A8-1FF7F982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2FD79-CA64-414F-9C1D-2D5EB533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CDB41-FB35-406F-98B0-018188CB2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0EDF0-CE7F-4259-AFB4-B4B9F6AF2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59DE9-861E-41BC-BE08-E69868DF0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3F310-948F-4067-973D-2B519098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4729D-4FD8-4D5E-B824-18493720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3F38-32AE-4BA2-8776-15BD5514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DA436-D3BB-43A5-AB10-814BA434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69562-C41B-480D-B9EE-45394107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7A26D-FFCB-418B-8AAD-8953FCDD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6CCAB-2021-4B89-B8C5-ED215855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EC09D-1506-4A60-8CD4-AF472882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C90F3-8511-4417-9988-4C1940EC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9744C-C908-4A20-9FAC-DC8DE901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166F9-CC76-4C85-AB1E-849A9F487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B2CEE-64CA-40AC-AF57-EF4B75CA5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B422-1DA7-445A-B8C9-8526C2D9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66E8-E507-4E20-93CA-DC57F90E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9CD5-1BEE-4B92-83BF-DF320B84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5388-7C88-47C4-8047-54A7B238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349D-8EC6-46AA-A552-18C0E112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B0B2-E686-4A64-897A-358ECF406915}" type="slidenum">
              <a:rPr b="0" lang="en-US" sz="1200" spc="-1" strike="noStrike">
                <a:solidFill>
                  <a:srgbClr val="42424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4BAE-AB61-40F5-BB26-6F4D5F842389}" type="slidenum">
              <a:rPr b="0" lang="en-US" sz="1200" spc="-1" strike="noStrike">
                <a:solidFill>
                  <a:srgbClr val="d4eae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1768-1FC5-4520-AA50-FB13DA933243}" type="slidenum">
              <a:rPr b="0" lang="en-US" sz="1200" spc="-1" strike="noStrike">
                <a:solidFill>
                  <a:srgbClr val="d4eae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77EB-C13F-4619-9214-B9787F9632A4}" type="slidenum">
              <a:rPr b="0" lang="en-US" sz="1200" spc="-1" strike="noStrike">
                <a:solidFill>
                  <a:srgbClr val="42424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298440" y="1371600"/>
            <a:ext cx="8302680" cy="22734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724280" y="5257440"/>
            <a:ext cx="3587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By: Husain Baaq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ENC 1102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Kyle Stedman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2"/>
          <a:stretch/>
        </p:blipFill>
        <p:spPr>
          <a:xfrm>
            <a:off x="1066680" y="3352680"/>
            <a:ext cx="3467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itle 1" descr=""/>
          <p:cNvPicPr/>
          <p:nvPr/>
        </p:nvPicPr>
        <p:blipFill>
          <a:blip r:embed="rId1"/>
          <a:stretch/>
        </p:blipFill>
        <p:spPr>
          <a:xfrm>
            <a:off x="457200" y="658800"/>
            <a:ext cx="7851600" cy="15843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28240" y="182844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lvl="1"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roper Introduction: Things NOT to do in an introductory paragraph."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Guide to Grammar and Writing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Capital Community College Foundation. 29 Apr 2009 &lt;http://grammar.ccc.commnet.edu/GRAMMAR/intros.htm&gt;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llanca, Pat. "Ending The Essay: Conclusions."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ing Cent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1998. Harvard University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 Apr 2009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http://www.fas.harvard.edu/~wricntr/documents/Conclusions.html&gt;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Fleming, Grace. "The Introductory Paragraph: Start With a Great First Sentence."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           </a:t>
            </a: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About.com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. 29 Apr 2009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&lt;http://homeworktips.about.com/od/paperassignments/a/introsentence.htm&gt;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"How to Write a Structured Essay." </a:t>
            </a: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EastChance.com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. 2000. 29 Apr 2009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&lt;http://www.eastchance.com/howto/struct_es.asp&gt;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464646"/>
                </a:solidFill>
                <a:latin typeface="Calibri"/>
              </a:rPr>
              <a:t>Writing an Essay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5000"/>
            <a:ext cx="822960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he most important factors to consider when writing an essay are a proper introduction and conclus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hese two paragraphs are the backbone of the essa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t’s sort of like a sandwich. The introduction and conclusion symbolize the bread slic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5867280" y="4916520"/>
            <a:ext cx="259092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464646"/>
                </a:solidFill>
                <a:latin typeface="Calibri"/>
              </a:rPr>
              <a:t>The Introduction!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5000"/>
            <a:ext cx="8229600" cy="38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First impressions are  very importa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he first sentence of a paper sets the stage for a lasting opinion.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nstantia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he start of the introduction should always grab the reader’s atten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When starting the introduction, do NOT blatantly announce the purpose of the essay.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xample: In this paper, I will…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4038480" y="5943600"/>
            <a:ext cx="4648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onstantia"/>
              </a:rPr>
              <a:t>1: Quoted from Grace Fleming’s  “How to Write a Strong Introduction”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onstantia"/>
              </a:rPr>
              <a:t>2: Adapted from- Things </a:t>
            </a:r>
            <a:r>
              <a:rPr b="0" lang="en-US" sz="1200" spc="-1" strike="noStrike" u="sng">
                <a:solidFill>
                  <a:srgbClr val="424242"/>
                </a:solidFill>
                <a:uFillTx/>
                <a:latin typeface="Constantia"/>
              </a:rPr>
              <a:t>NOT</a:t>
            </a:r>
            <a:r>
              <a:rPr b="0" lang="en-US" sz="1200" spc="-1" strike="noStrike">
                <a:solidFill>
                  <a:srgbClr val="424242"/>
                </a:solidFill>
                <a:latin typeface="Constantia"/>
              </a:rPr>
              <a:t> to do in an introductory paragra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464646"/>
                </a:solidFill>
                <a:latin typeface="Calibri"/>
              </a:rPr>
              <a:t>Introduction Guidelines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5867280" y="3352680"/>
            <a:ext cx="3276720" cy="2286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457200" y="1934640"/>
            <a:ext cx="6324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When writing an introduction, important concepts to keep in mind ar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learly state the subject being dealt wit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tate the narrow topic the paper is focusing 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nd the introduction with a clear thesis by mentioning the position being take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464646"/>
                </a:solidFill>
                <a:latin typeface="Calibri"/>
              </a:rPr>
              <a:t>The Dreaded Thesis Statement!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686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oming up with a proper thesis statement can be difficul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o make this process simpler follow these simple rules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ake the thesis statement narrow, specific and cle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o NOT promise any analysis or review on the topi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ry to find a specific argument to defen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56320">
              <a:lnSpc>
                <a:spcPct val="90000"/>
              </a:lnSpc>
              <a:spcBef>
                <a:spcPts val="524"/>
              </a:spcBef>
              <a:buClr>
                <a:srgbClr val="eb641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EXAMPLE: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56320">
              <a:lnSpc>
                <a:spcPct val="90000"/>
              </a:lnSpc>
              <a:spcBef>
                <a:spcPts val="524"/>
              </a:spcBef>
              <a:buClr>
                <a:srgbClr val="eb641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Yes!:  I will argue that the use of marijuana should be legalized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56320">
              <a:lnSpc>
                <a:spcPct val="90000"/>
              </a:lnSpc>
              <a:spcBef>
                <a:spcPts val="524"/>
              </a:spcBef>
              <a:buClr>
                <a:srgbClr val="eb641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No!: I wish to review the pros of making marijuana legal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Footer Placeholder 3"/>
          <p:cNvSpPr/>
          <p:nvPr/>
        </p:nvSpPr>
        <p:spPr>
          <a:xfrm>
            <a:off x="556272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onstantia"/>
              </a:rPr>
              <a:t>3: Quoted from “How to write a structured essa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Title 1" descr=""/>
          <p:cNvPicPr/>
          <p:nvPr/>
        </p:nvPicPr>
        <p:blipFill>
          <a:blip r:embed="rId1"/>
          <a:stretch/>
        </p:blipFill>
        <p:spPr>
          <a:xfrm>
            <a:off x="536400" y="890640"/>
            <a:ext cx="7772400" cy="1584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1905120" y="2057400"/>
            <a:ext cx="5046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464646"/>
                </a:solidFill>
                <a:latin typeface="Calibri"/>
              </a:rPr>
              <a:t>Wrapping It Up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he conclusion provides the writer one last chance to persuade the read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t should contain the restated thesis and a summary of the main poi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he most important thing to remember is that the conclusion should “convey a sense of completeness and closure as well as a sense of the lingering possibilities of the topic.”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nstantia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Footer Placeholder 3"/>
          <p:cNvSpPr/>
          <p:nvPr/>
        </p:nvSpPr>
        <p:spPr>
          <a:xfrm>
            <a:off x="5410080" y="617220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onstantia"/>
              </a:rPr>
              <a:t>4: Harvard’s website on Writing a 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464646"/>
                </a:solidFill>
                <a:latin typeface="Calibri"/>
              </a:rPr>
              <a:t>A Conclusion Should NOT…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Be a simple summary of the ess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ontain an apology for your position on the argu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llow readers the chance to question your stance on the top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o not undercut your authority by using phrases such as: “This is just one approach..” “It seems like…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Begin with: “in conclusion,” “to conclude,” or “in summary”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nstantia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Footer Placeholder 3"/>
          <p:cNvSpPr/>
          <p:nvPr/>
        </p:nvSpPr>
        <p:spPr>
          <a:xfrm>
            <a:off x="5562720" y="624852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onstantia"/>
              </a:rPr>
              <a:t>5: Harvard's Website on Writing a 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335268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64646"/>
                </a:solidFill>
                <a:latin typeface="Calibri"/>
              </a:rPr>
              <a:t>In the end…</a:t>
            </a:r>
            <a:endParaRPr b="0" lang="en-US" sz="48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9718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Using these simple tips will help you create effective introduction and conclusion paragraphs which will make your essay flow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3962520" y="1600200"/>
            <a:ext cx="449568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8T23:41:18Z</dcterms:created>
  <dc:creator>Ingrid</dc:creator>
  <dc:description/>
  <dc:language>en-US</dc:language>
  <cp:lastModifiedBy>Suzanne Conti</cp:lastModifiedBy>
  <dcterms:modified xsi:type="dcterms:W3CDTF">2010-09-29T14:44:00Z</dcterms:modified>
  <cp:revision>6</cp:revision>
  <dc:subject/>
  <dc:title>Slide 1</dc:title>
</cp:coreProperties>
</file>